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E0E-1A9D-4014-A12B-81FB96F9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DC3-0AF3-40E4-ABF0-B3E0A37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266-DB18-4607-9C84-303E3A70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493-BE7F-40DE-A85C-4CF00826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4CDF-70E3-44A5-92A9-D9C26F9D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E729-56A2-4A0C-8593-95F33B4A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B0B1-5E23-4E93-8782-629D8713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5856-8243-4245-BFD6-3FD3672A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3661-0CB5-41F8-B6E1-381E6C51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C111-147D-4D72-BC5F-8419642F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D342-2176-4774-B156-02188239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E31-3CF7-4087-96B1-826B3D5B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55C7-15A6-40B7-B6EE-93C193D7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6A19-88AA-4E3A-B413-10432351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7241-8024-4AB7-9FAE-FA4421FC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4AEE-B574-4445-BD46-388E8138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CCFD-5BC2-4B48-A5FB-94AAE857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C2696-FD2A-45AB-A064-334F538D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C493D-BA05-4482-A135-8E618047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CF0A2-78B1-40C0-B02B-48A42D37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FECA0-1E5E-4289-9C45-98611C3A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98E8C-0297-4B76-A0F6-EA0E2C7B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4B6-DB94-49E0-A986-7FFB7AF2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60A16-AC7C-4F0B-B04B-39794B41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78C94-2AD2-4974-8809-830883C6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D159F-7027-42BF-9934-555D3541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4C5F2-DD59-49C3-8501-AE4B2F87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1AAF0-A7E5-410A-B8D8-5DC5F42D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31ED0-86A3-47B6-BFD8-31208192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8A23D-C5C3-418B-AAEC-4F347AAA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3675E-3D3C-4062-BB6B-20AAB37B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A125-B801-407E-B601-C3E7035D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23844-A1EC-4B19-9A70-4ED1DD7F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85F-F1AF-498B-9BB0-070687FF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EEFC-0B1D-439C-9091-5CC55AA7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D26C9-7EEE-4A93-B12B-35CA6BA4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D7606-D2CC-483D-B4E5-7965DCD5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892DB-56A1-4018-A254-56BE6CC0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78718-8484-418E-BBA9-D5F29A9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12BFF-A004-4034-9C11-4C25748D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1F20-AB4D-4E57-8568-F6864103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20811-BFBA-4934-9D2F-F5B01EC7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E774-C218-43B2-9B62-9C3B6561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A4AAD-231F-4D3C-9959-FBAB711A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AB3-2803-4769-87E1-A6B443A1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165A7-7504-4CA6-991A-748AB9A7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789BE-14BB-4764-8AD4-264CD6F7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0FC73-F67E-40F6-A9FE-A0AA3A10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2AB21-FA9F-44CB-994A-0100D71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87327-FEEC-4630-9F72-E10AB410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12E94-9BD6-46FA-BC0D-6CA4B771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0473F-E78C-4C5C-96CC-F168F5A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0C5D10-801F-4E50-A41F-8A851DBA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4463D-7304-4E74-8A29-3D2970F8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8FFE7-6820-4B43-B75F-99282B6B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450-72DE-4D02-AA03-2408DD33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A2F4A-A5DA-419A-84B9-031D5C21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AA2E4F-7A25-4E1C-8FC6-4CF28C4A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549B9-35DF-4D15-A1B8-8E065165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3CDBF-9D97-4424-B080-64659350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0979B-FF1D-47F5-AFCB-B6A8D762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7F225-9267-439E-B1D1-4A5D6218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84014-71F7-43F7-AA28-9E1F6AE0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42D85-B48C-40F4-B217-2559C01B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35CBE-BE0D-4BCC-97C2-47CAF7B9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A5559-8ABE-48C0-A5E3-75B7E2C7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C92-AA36-4F0A-BC9F-3E3F0F9E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66398-42D8-47E0-AC8E-BED95113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FA46E-D31D-41FE-BD46-478F9CDE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9497D-428D-4F1D-A6D3-6C4C5690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DCD77-CA75-40B6-9420-C4E54BAD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84398-D7F6-4A8E-A282-259A4A38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0E288-E44C-4E85-A02F-CEB993D0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92663-CDAF-40DE-AC22-AF82FFAE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BBE45-9DC7-4BA6-AE0B-61519EEC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0AE878-905B-4693-B3EE-EB0EE2F1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5F0C1-573B-4390-870E-787DC584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107-2932-45BA-AFED-0C93E5F1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81A4A-154D-4783-B036-704B9FFF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390A1-363F-4FB9-89AA-668D4390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D4A20-7780-4849-8873-F5F447F3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13238-1128-4E47-BA74-F2F6243F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232C6-D0AC-4D1A-8F25-A754E5D9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3BC-7957-40F8-9A89-75E704A8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4D84-27BE-4CFD-B191-E68873E9CF60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D5AA-83DF-41D5-B94A-20DEF1F9646F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EC19-380C-4CEB-AF9D-E7792FB50BB0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C3FD-C1F6-4867-B36F-10AD1D9B1B0B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FCBC-088F-4C0E-BF32-F8BB6A138C82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03DE-A060-4973-8EFB-76C580AF21D9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2E32-086B-4EC6-AE29-8FD75E5E1A68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0720" y="2133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UNIT 3: ENERGY CHANGES &amp; RATES OF REA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5" descr="https://encrypted-tbn0.gstatic.com/images?q=tbn:ANd9GcSyMlyHtCB9HNH4_cysv-7_3fE0X78z7FVBVsPEU3T0ki8jxBlE2w"/>
          <p:cNvPicPr/>
          <p:nvPr/>
        </p:nvPicPr>
        <p:blipFill>
          <a:blip r:embed="rId1"/>
          <a:stretch/>
        </p:blipFill>
        <p:spPr>
          <a:xfrm>
            <a:off x="3276720" y="4267080"/>
            <a:ext cx="36766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FACTORS AFFECTING ENERGY CHA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at change in a chemical system (enthalpy) can be calculated using the formul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=m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∆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∆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 – the change in T from the beginning to the end (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al –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itia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ype of substance is taken care of by the c value which is the specific h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ENDOTHERMIC VS EXOTHERMIC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ergy changes are classified into endothermic or exothermic based on how energy flows between the chemical system and its surrounding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f energy is lost to the surroundings, the change is EXOTHERMI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 an exothermic change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value of  Q will b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gative and the temperatur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f the system will decreas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5" descr="https://encrypted-tbn2.gstatic.com/images?q=tbn:ANd9GcRSCw5ouaD2s7nbb3jxMS6a81fgR0-Z15EJQdN2gVGdfva-K-tvPg"/>
          <p:cNvPicPr/>
          <p:nvPr/>
        </p:nvPicPr>
        <p:blipFill>
          <a:blip r:embed="rId1"/>
          <a:stretch/>
        </p:blipFill>
        <p:spPr>
          <a:xfrm>
            <a:off x="6553080" y="3429000"/>
            <a:ext cx="16765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ENDOTHERMIC VS. EXOTHERMI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energy is absorbed from its surroundings, the change is ENDOTHERMI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n endothermic change, the value of Q will be positive and the temperature of the system will increa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5" descr="https://encrypted-tbn0.gstatic.com/images?q=tbn:ANd9GcR5P6Uen8ugJ93Ahub5ty6qN85AOBfCUvpL3EN4ocW0FVnpBdQqDg"/>
          <p:cNvPicPr/>
          <p:nvPr/>
        </p:nvPicPr>
        <p:blipFill>
          <a:blip r:embed="rId1"/>
          <a:stretch/>
        </p:blipFill>
        <p:spPr>
          <a:xfrm>
            <a:off x="2286000" y="3276720"/>
            <a:ext cx="35053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BASIC DEFINITION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rmochemistry: the study of energy changes that accompany physical or chemical changes of matt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rmal Energy: the energy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vailable from a substanc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s a result of the motion of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ts molecules; the sum of the kinetic energies of all of the particles of a system (can’t measure this but can measure heat released or absorbed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5" descr="https://encrypted-tbn2.gstatic.com/images?q=tbn:ANd9GcQUGkcynWaNY6CTR0331XOd-fYLTm93eu1tIKYQJcnnhMUeVufRZQ"/>
          <p:cNvPicPr/>
          <p:nvPr/>
        </p:nvPicPr>
        <p:blipFill>
          <a:blip r:embed="rId1"/>
          <a:stretch/>
        </p:blipFill>
        <p:spPr>
          <a:xfrm>
            <a:off x="5867280" y="2362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4771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BASIC DEFINIT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System: any sample under observation (could be the coffee in a coffee cup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mical System: the set of reactants and products that are being studied (usually represented by a chemical equatio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roundings: all matter around the system being studied that is capable of absorbing or releasing energ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ttps://encrypted-tbn3.gstatic.com/images?q=tbn:ANd9GcSAftUTC483QdRdQN9UHUsnsyh4iKt1Vje3kBuMof-IQUS5fCjQgQ"/>
          <p:cNvPicPr/>
          <p:nvPr/>
        </p:nvPicPr>
        <p:blipFill>
          <a:blip r:embed="rId1"/>
          <a:stretch/>
        </p:blipFill>
        <p:spPr>
          <a:xfrm>
            <a:off x="2438280" y="5029200"/>
            <a:ext cx="4038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YPES OF SYSTEM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PEN SYSTEM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chemical system in which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ergy and matter can mov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etween the system and it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rroundings (e.gg a reac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aking place in a beaker or a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est tube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5" descr="http://www.calveleyschool.co.uk/uploads/filemanager/Class_2_photos/Testtube2.gif"/>
          <p:cNvPicPr/>
          <p:nvPr/>
        </p:nvPicPr>
        <p:blipFill>
          <a:blip r:embed="rId1"/>
          <a:stretch/>
        </p:blipFill>
        <p:spPr>
          <a:xfrm>
            <a:off x="5791320" y="457200"/>
            <a:ext cx="2685960" cy="51339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open1.png"/>
          <p:cNvPicPr/>
          <p:nvPr/>
        </p:nvPicPr>
        <p:blipFill>
          <a:blip r:embed="rId2"/>
          <a:stretch/>
        </p:blipFill>
        <p:spPr>
          <a:xfrm>
            <a:off x="2743200" y="4343400"/>
            <a:ext cx="2727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TYPES OF SYSTE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OSED SYSTE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 in which matter can not move in or out but energy ma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(e.g. once the lid is on and when heated, the steam cannot leave (matter) but the heat is passed through the po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closed1.png"/>
          <p:cNvPicPr/>
          <p:nvPr/>
        </p:nvPicPr>
        <p:blipFill>
          <a:blip r:embed="rId1"/>
          <a:stretch/>
        </p:blipFill>
        <p:spPr>
          <a:xfrm>
            <a:off x="3200400" y="3565440"/>
            <a:ext cx="394344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TYPES OF SYSTEMS CONT’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OLATED SYSTE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system in which neither mass or energy can move in or out; this would be the ideal way to measure energy changes in a chemical syste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difficult to do, so to measure thermal energy changes, we use calorimeters to be isolated systems even though they are really closed syste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isolated1.png"/>
          <p:cNvPicPr/>
          <p:nvPr/>
        </p:nvPicPr>
        <p:blipFill>
          <a:blip r:embed="rId1"/>
          <a:stretch/>
        </p:blipFill>
        <p:spPr>
          <a:xfrm>
            <a:off x="4267080" y="3962520"/>
            <a:ext cx="3197520" cy="25113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609480" y="487692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thermos is almost an isolated system but it does lose or gain heat over tim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MEASURING ENERGY CHANGES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lorimetry is the process through which energy changes in a chemical system are measure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5" descr="https://encrypted-tbn2.gstatic.com/images?q=tbn:ANd9GcShbZuxBbWb3UNzQioWEcSsXgb-EA7wVJ8jO3xFSlvujO-3F8p7vQ"/>
          <p:cNvPicPr/>
          <p:nvPr/>
        </p:nvPicPr>
        <p:blipFill>
          <a:blip r:embed="rId1"/>
          <a:stretch/>
        </p:blipFill>
        <p:spPr>
          <a:xfrm>
            <a:off x="1143000" y="3733920"/>
            <a:ext cx="1790640" cy="25527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https://encrypted-tbn1.gstatic.com/images?q=tbn:ANd9GcR0wkIFOjc2EDOjaS8qE7SDSshR71g9QxBfXdRYKVp7bq2zoU61"/>
          <p:cNvPicPr/>
          <p:nvPr/>
        </p:nvPicPr>
        <p:blipFill>
          <a:blip r:embed="rId2"/>
          <a:stretch/>
        </p:blipFill>
        <p:spPr>
          <a:xfrm>
            <a:off x="5181480" y="2819520"/>
            <a:ext cx="2619360" cy="21240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8"/>
          <p:cNvSpPr/>
          <p:nvPr/>
        </p:nvSpPr>
        <p:spPr>
          <a:xfrm>
            <a:off x="4038480" y="56386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AHS science lab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1143000" y="289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ancy calo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MEASURING ENERGY CHA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Hard to measure thermal energy changes but you can measure: changes in T, Volume of or mass contained in the system and pressure of system on surroundings and vice-ver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perature – the measure o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average kinetic energy of al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articles of a sample of mat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So to indirectly measure thermal energy, we measure heat (Q) – how much is leaving or entering a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https://encrypted-tbn1.gstatic.com/images?q=tbn:ANd9GcS5YXYXqMXMXYTthSYx2IiDUYccNnbSxlumit4VCqJn4TKm96NE"/>
          <p:cNvPicPr/>
          <p:nvPr/>
        </p:nvPicPr>
        <p:blipFill>
          <a:blip r:embed="rId1"/>
          <a:stretch/>
        </p:blipFill>
        <p:spPr>
          <a:xfrm>
            <a:off x="5715000" y="2666880"/>
            <a:ext cx="29242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FACTORS AFFECTING ENERGY CHA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actors that affect energy change in a chemical system are mass (m in g), temperature chang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 in C) and the specific heat capacity of a substance (c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entury Schoolbook"/>
              </a:rPr>
              <a:t>Specific heat capac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amount of energy required to raise the T of 1 gram of a substance by 1</a:t>
            </a:r>
            <a:r>
              <a:rPr b="0" lang="en-CA" sz="16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C. (units = J/g/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https://encrypted-tbn3.gstatic.com/images?q=tbn:ANd9GcTKmSnhDVStUjc1cB3cQVvyJnDV87oEAbPENvn2ysDcmpIN3crv"/>
          <p:cNvPicPr/>
          <p:nvPr/>
        </p:nvPicPr>
        <p:blipFill>
          <a:blip r:embed="rId1"/>
          <a:stretch/>
        </p:blipFill>
        <p:spPr>
          <a:xfrm>
            <a:off x="2971800" y="4648320"/>
            <a:ext cx="25812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4:42:46Z</dcterms:created>
  <dc:creator>Jennifer Wilso</dc:creator>
  <dc:description/>
  <dc:language>en-US</dc:language>
  <cp:lastModifiedBy>Sylvia</cp:lastModifiedBy>
  <dcterms:modified xsi:type="dcterms:W3CDTF">2017-11-06T04:15:17Z</dcterms:modified>
  <cp:revision>12</cp:revision>
  <dc:subject/>
  <dc:title>Heat and Energy Changes</dc:title>
</cp:coreProperties>
</file>